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76FA-8775-407F-AE09-913957A33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cold mc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given that it was good for us because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given that it was good for us because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.h commits because of changing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ative est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counting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old method of grids like arch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new method using statistical pro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have specced the project for *just* the model and a prototype of the View and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 says Russia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S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F894-0050-4FF3-AFB1-C38F3DDD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4D8-93C6-4949-811C-7B1A4D2B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527-6912-4585-B938-A4336D84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03F-0EFD-4E66-B2B5-3348707F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A35-C5F9-448F-8907-4CE448C4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1D46-117D-41FF-BCF6-A92DA473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69E-A42A-45CC-9B91-8E6B03FF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27E-4949-492C-BF6D-691757A5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B861-4D72-4277-92D7-BDD5402E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515-D089-45B5-88AF-11B794B6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3B2-612E-4066-9CBF-3B7C94D1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457-93C8-4EC3-8D13-8D697F7A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7462-8E6E-4327-9F58-134A07912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se Habitat Surveyor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Alaska Anch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 401 : Softwar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d Moose Chasers (Cold MC’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 Konova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ris Kulha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im W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is well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er manipulate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3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rend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Panel to show plant p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View control to show the model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Grid control to show instance variables of model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0760" y="1599840"/>
            <a:ext cx="79311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çade Pattern (FieldTr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s Model class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with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p = ft.getWp(wp_idx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 = wp.getPp(pp_idx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g = pp.getCyg(cyg_idx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g.setCygBase(base3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çad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.cygSetBase( wp_idx, pp_idx, cyg_Idx, base3d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ç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and fast to implement because you can use protected variables instead of set/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function calls to manipulat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innards can be changed without affecting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great O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components not very reu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nputs should be able to use ink, keyboard, or attached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flexibility in the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0"/>
          <a:ext cx="9144000" cy="70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3D meshes because of architectural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Patch Model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Grid GUI View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++ string parser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ypoint Model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View GUI View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tise (con’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NET C++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YearGrowth Model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 PictureBox GUI View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l slave (coffee, lunch, notes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ished(?)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idn’t know until 5 minutes ago what exactly we were going to show you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t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: Me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: Data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: TreeView from model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: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files (70 exp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megs of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0 Lines of code (3500 exp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5 pages of docs (120 exp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APIs (3drp, DirectX, TabletPC, .N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3 CVS com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 CVS commits for Model.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9 Total person hours (519 exp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6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hours of meeting time per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hours of research/design/writing time per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hours of group time per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8 hours of code time per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15000" y="1494000"/>
            <a:ext cx="3429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: Things we did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VS is good, viewcvs makes it better, statcvs makes it even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++ or not, Visual Studio is sw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 meeting agendas and minutes increased trace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division of 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8 hour work together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alk throug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cies like the forest service need a way to task biologists to measure and predict the amount of Moose edible biomass in an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random samples with a computer and project the distribution onto an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: Things that suc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many new technologies (Cray quo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experience in C++ and C++ .NET espec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lient buy in. Should have had a contra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earlier, especially with new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expected application behavior better in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Libs and new libs (VC2003 vs. VC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project schedule earlier and revise conti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won’t achieve acceptance of origi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hould have majored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ust kidd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(for re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ngineering is challe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members does not equal 3 times the effort of a single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lanning can save time and effort down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ipline is more important than ge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ve is better than exc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is the most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ts get a list of GPS waypoints from an Agency like the fores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ts go to each Waypoint and sample 9 CurrentYearGrowth (CYG) of many PlantP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ts export the biomass data to a file and give it to the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609480" y="304920"/>
          <a:ext cx="807732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80773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3520" y="990720"/>
          <a:ext cx="81532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1532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533520"/>
          <a:ext cx="8915400" cy="43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8915400" cy="43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133720" y="0"/>
          <a:ext cx="4935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0"/>
                    <a:ext cx="4935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09480" y="914400"/>
          <a:ext cx="807732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807732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Rend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view of instance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: Import/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ce: Save/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Radio Pen (3d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2:19:25Z</dcterms:created>
  <dc:creator>Jim Weller</dc:creator>
  <dc:description/>
  <dc:language>en-US</dc:language>
  <cp:lastModifiedBy>Jim Weller</cp:lastModifiedBy>
  <dcterms:modified xsi:type="dcterms:W3CDTF">2005-12-07T20:20:41Z</dcterms:modified>
  <cp:revision>6</cp:revision>
  <dc:subject/>
  <dc:title>Moose Habitat Surveyor</dc:title>
</cp:coreProperties>
</file>